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64E1-282D-4CC5-B1E9-EA87E2CFDF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99E6-3196-482D-8D81-829B356841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7FEE-2E01-4864-AC28-9F5A662F0D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3C6-CC97-4F15-B852-3BAB95DB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8EB-E336-49CD-861C-57F0EC60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ED30F-9C77-4C07-A635-CB0AE7169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F00-6B44-4D99-BD29-D4D4F181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8152-7465-4D18-8F10-28EA58654D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1FED1-5CED-467A-8E1C-6069547D957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46F9-4785-4EA4-B536-4B49594245E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DA781-D43D-438F-806E-739EF2A228F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00280-B418-453C-9CF0-E65A26D910D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02DB5-34CE-401D-B6CA-C6743831013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16D4-847F-4DB6-BD98-3FDD4998F95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8144F-9A6F-4727-9630-4508FFCAEFE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A168-1D03-4B2E-B961-0638D2C5FFE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6715-9504-4273-9642-ACAECBB85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68D-7DD6-4151-B402-15BEA1E2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05EA3-D6CB-48A9-9A6C-8AC35CBB3C9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350-6414-4A99-9D4A-A543EFA6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3C1-2449-4CB4-BF5A-0057E90A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68C4D-191E-47D1-843A-AAE5E1679E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25A0A-A2FF-42DB-B01C-09C6E4E4F7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20D97-E3EE-414F-AC0D-B5E8DC752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15D-DA93-407B-91E7-99E60C29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A53FF-D006-45A2-BA40-886E210A6D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984EA-F977-4578-8C0C-CF3E9EDACA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59EBD-8908-4159-99CC-1FF28A36BC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FF059-594C-4D04-9F94-319AEEFA8F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CA77E-3D18-46D9-91BE-03021E3338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855C3-0BF6-45CA-BC21-5D0142749D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F75E8-DE09-492B-89A4-9AE4C39460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8413A-13D9-4F72-A2F0-D436816680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EE7B9-CC1A-49E1-BE57-61CDF3CE0D0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B263FB-AF8B-42D2-A0BB-4954930D3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861-835B-48F2-9A7A-5C20B2CC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A91BB2-B696-42C9-BBFD-6C5C1DBF6E0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58D7C4-87F0-4449-A9C3-4613F3C96D2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A37564-D735-42D6-A035-6FB43A96F90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665FFB-9FFB-42C4-B23E-08DB5F56629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A3BCFE-7CFF-4653-ACE4-B78A2648145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EC45DC-3DBB-4CC0-9152-32322591997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E6AB45-7FCB-4BCE-A6F6-EEC3F6A035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A0EF35-CEE8-4AF9-825A-66ACB1168A9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C59AA5-03FA-4AFF-9FD2-853309B8225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802142-2E85-44E9-9FCB-EF5B44AB5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5C5-39C6-4776-80B8-8319F9D0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102788-A65B-4576-82CF-F996D3E1AC0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B3A-48F2-41C8-AA20-79E7A104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825-A365-49B8-BD99-0731B127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5AC-D5FC-41FD-95DC-C8E4CB03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E9E5-294F-4F21-8385-DED7B51818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B461-6DB1-4E22-84E0-8638460B45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1064-044C-4BA1-8FB2-909200D239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EDD1-C727-4BFF-BB63-309A587280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rz@itrus.com.cn" TargetMode="External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USBKey</a:t>
            </a: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智能卡介质解锁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解锁办理条件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14240" y="1357200"/>
            <a:ext cx="80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存储数字证书的专用硬件设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什么情况解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供应商连续输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密码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被锁定无法使用，需要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进行解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日常使用的数字证书客户端工具中，在证书服务中，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1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3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解锁需要申请资料并进行填写，填写的信息确认与公司信息一致后在线提交解锁申请更新数字证书；申请材料包括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申请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1" descr=""/>
          <p:cNvPicPr/>
          <p:nvPr/>
        </p:nvPicPr>
        <p:blipFill>
          <a:blip r:embed="rId1"/>
          <a:stretch/>
        </p:blipFill>
        <p:spPr>
          <a:xfrm>
            <a:off x="324000" y="2735280"/>
            <a:ext cx="84358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扫描件或电子照片，发送到邮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宋体"/>
                <a:hlinkClick r:id="rId1"/>
              </a:rPr>
              <a:t>rz@itrus.com.c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邮件主题注明“某某公司解锁申请凭证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的电子材料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解锁工作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解锁办理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1098720" y="2924280"/>
            <a:ext cx="80658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解锁收费标准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次，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6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解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解锁资料接收邮箱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rz@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58Z</dcterms:modified>
  <cp:revision>197</cp:revision>
  <dc:subject/>
  <dc:title>幻灯片 1</dc:title>
</cp:coreProperties>
</file>